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8.wmf" ContentType="image/x-wmf"/>
  <Override PartName="/ppt/media/image10.jpeg" ContentType="image/jpeg"/>
  <Override PartName="/ppt/media/image5.png" ContentType="image/png"/>
  <Override PartName="/ppt/media/image9.wmf" ContentType="image/x-wmf"/>
  <Override PartName="/ppt/media/image11.jpeg" ContentType="image/jpeg"/>
  <Override PartName="/ppt/media/image19.gif" ContentType="image/gif"/>
  <Override PartName="/ppt/media/image4.wmf" ContentType="image/x-wmf"/>
  <Override PartName="/ppt/media/image18.wmf" ContentType="image/x-wmf"/>
  <Override PartName="/ppt/media/image17.png" ContentType="image/png"/>
  <Override PartName="/ppt/media/image16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63AD-8DBA-42D4-86F2-75B9A6480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F252-AA98-4838-8321-05192C044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3D96-02A7-4962-8CA3-38AE0140E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FA9C-D0A3-420B-A2A9-752CB2F22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D548-0E5E-47F9-859F-B9255D1A1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B30B-29AF-468E-A7A5-F53CE9FC4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81DC-C4C4-4559-A281-8B380C783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3D28-63F1-42BE-A740-98CF83319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0DB9-C1F5-47E0-A201-A35A0E18C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B38A-31C7-4537-B802-E1C666A1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3BA4-9C76-46AB-99BA-25A8247F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B366-FF24-433D-8A0E-DA6451C8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EDA59-89F1-4A6D-8E33-DD86E16366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static.flickr.com/69/213515876_c2ef807c92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images.google.co.uk/imgres?imgurl=http://upload.wikimedia.org/wikipedia/commons/b/b8/Ear.jpg&amp;imgrefurl=http://commons.wikimedia.org/wiki/Image:Ear.jpg&amp;h=856&amp;w=546&amp;sz=220&amp;hl=en&amp;start=7&amp;sig2=bXZO4xzCYtPorB7OI8lc0w&amp;um=1&amp;usg=__7lnVWLRVJXF7T_J6nXU7_rpzdi4=&amp;tbnid=R_kp1PG-SIfWFM:&amp;tbnh=145&amp;tbnw=92&amp;ei=0F__SP_dLZCaxAGBoon6AQ&amp;prev=/images%3Fq%3Dear%26um%3D1%26hl%3Den%26rlz%3D1T4GGIH_en-GBGB261GB261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png"/><Relationship Id="rId7" Type="http://schemas.openxmlformats.org/officeDocument/2006/relationships/hyperlink" Target="http://www.dkimages.com/discover/previews/741/60561.JPG" TargetMode="External"/><Relationship Id="rId8" Type="http://schemas.openxmlformats.org/officeDocument/2006/relationships/image" Target="../media/image6.jpeg"/><Relationship Id="rId9" Type="http://schemas.openxmlformats.org/officeDocument/2006/relationships/image" Target="../media/image7.wmf"/><Relationship Id="rId10" Type="http://schemas.openxmlformats.org/officeDocument/2006/relationships/image" Target="../media/image8.wmf"/><Relationship Id="rId11" Type="http://schemas.openxmlformats.org/officeDocument/2006/relationships/image" Target="../media/image9.wmf"/><Relationship Id="rId12" Type="http://schemas.openxmlformats.org/officeDocument/2006/relationships/hyperlink" Target="http://static.flickr.com/69/213515876_c2ef807c92.jpg" TargetMode="External"/><Relationship Id="rId13" Type="http://schemas.openxmlformats.org/officeDocument/2006/relationships/image" Target="../media/image10.jpeg"/><Relationship Id="rId14" Type="http://schemas.openxmlformats.org/officeDocument/2006/relationships/image" Target="../media/image11.jpeg"/><Relationship Id="rId15" Type="http://schemas.openxmlformats.org/officeDocument/2006/relationships/image" Target="../media/image12.jpeg"/><Relationship Id="rId16" Type="http://schemas.openxmlformats.org/officeDocument/2006/relationships/hyperlink" Target="http://images.google.co.uk/imgres?imgurl=http://upload.wikimedia.org/wikipedia/commons/b/b8/Ear.jpg&amp;imgrefurl=http://commons.wikimedia.org/wiki/Image:Ear.jpg&amp;h=856&amp;w=546&amp;sz=220&amp;hl=en&amp;start=7&amp;sig2=bXZO4xzCYtPorB7OI8lc0w&amp;um=1&amp;usg=__7lnVWLRVJXF7T_J6nXU7_rpzdi4=&amp;tbnid=R_kp1PG-SIfWFM:&amp;tbnh=145&amp;tbnw=92&amp;ei=0F__SP_dLZCaxAGBoon6AQ&amp;prev=/images%3Fq%3Dear%26um%3D1%26hl%3Den%26rlz%3D1T4GGIH_en-GBGB261GB261" TargetMode="External"/><Relationship Id="rId17" Type="http://schemas.openxmlformats.org/officeDocument/2006/relationships/image" Target="../media/image13.jpeg"/><Relationship Id="rId18" Type="http://schemas.openxmlformats.org/officeDocument/2006/relationships/image" Target="../media/image12.jpeg"/><Relationship Id="rId19" Type="http://schemas.openxmlformats.org/officeDocument/2006/relationships/image" Target="../media/image14.jpeg"/><Relationship Id="rId2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9.wmf"/><Relationship Id="rId5" Type="http://schemas.openxmlformats.org/officeDocument/2006/relationships/hyperlink" Target="http://static.flickr.com/69/213515876_c2ef807c92.jpg" TargetMode="External"/><Relationship Id="rId6" Type="http://schemas.openxmlformats.org/officeDocument/2006/relationships/image" Target="../media/image10.jpeg"/><Relationship Id="rId7" Type="http://schemas.openxmlformats.org/officeDocument/2006/relationships/image" Target="../media/image8.wmf"/><Relationship Id="rId8" Type="http://schemas.openxmlformats.org/officeDocument/2006/relationships/image" Target="../media/image3.wmf"/><Relationship Id="rId9" Type="http://schemas.openxmlformats.org/officeDocument/2006/relationships/image" Target="../media/image2.wmf"/><Relationship Id="rId10" Type="http://schemas.openxmlformats.org/officeDocument/2006/relationships/image" Target="../media/image5.png"/><Relationship Id="rId11" Type="http://schemas.openxmlformats.org/officeDocument/2006/relationships/image" Target="../media/image15.jpeg"/><Relationship Id="rId12" Type="http://schemas.openxmlformats.org/officeDocument/2006/relationships/hyperlink" Target="http://images.google.co.uk/imgres?imgurl=http://upload.wikimedia.org/wikipedia/commons/b/b8/Ear.jpg&amp;imgrefurl=http://commons.wikimedia.org/wiki/Image:Ear.jpg&amp;h=856&amp;w=546&amp;sz=220&amp;hl=en&amp;start=7&amp;sig2=bXZO4xzCYtPorB7OI8lc0w&amp;um=1&amp;usg=__7lnVWLRVJXF7T_J6nXU7_rpzdi4=&amp;tbnid=R_kp1PG-SIfWFM:&amp;tbnh=145&amp;tbnw=92&amp;ei=0F__SP_dLZCaxAGBoon6AQ&amp;prev=/images%3Fq%3Dear%26um%3D1%26hl%3Den%26rlz%3D1T4GGIH_en-GBGB261GB261" TargetMode="External"/><Relationship Id="rId13" Type="http://schemas.openxmlformats.org/officeDocument/2006/relationships/image" Target="../media/image16.jpe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static.flickr.com/69/213515876_c2ef807c92.jpg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7.png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png"/><Relationship Id="rId7" Type="http://schemas.openxmlformats.org/officeDocument/2006/relationships/hyperlink" Target="http://www.dkimages.com/discover/previews/741/60561.JPG" TargetMode="External"/><Relationship Id="rId8" Type="http://schemas.openxmlformats.org/officeDocument/2006/relationships/image" Target="../media/image6.jpeg"/><Relationship Id="rId9" Type="http://schemas.openxmlformats.org/officeDocument/2006/relationships/image" Target="../media/image7.wmf"/><Relationship Id="rId10" Type="http://schemas.openxmlformats.org/officeDocument/2006/relationships/image" Target="../media/image8.wmf"/><Relationship Id="rId11" Type="http://schemas.openxmlformats.org/officeDocument/2006/relationships/image" Target="../media/image9.wmf"/><Relationship Id="rId12" Type="http://schemas.openxmlformats.org/officeDocument/2006/relationships/hyperlink" Target="http://static.flickr.com/69/213515876_c2ef807c92.jpg" TargetMode="External"/><Relationship Id="rId13" Type="http://schemas.openxmlformats.org/officeDocument/2006/relationships/image" Target="../media/image10.jpeg"/><Relationship Id="rId14" Type="http://schemas.openxmlformats.org/officeDocument/2006/relationships/image" Target="../media/image11.jpeg"/><Relationship Id="rId15" Type="http://schemas.openxmlformats.org/officeDocument/2006/relationships/image" Target="../media/image12.jpeg"/><Relationship Id="rId16" Type="http://schemas.openxmlformats.org/officeDocument/2006/relationships/image" Target="../media/image13.jpeg"/><Relationship Id="rId17" Type="http://schemas.openxmlformats.org/officeDocument/2006/relationships/image" Target="../media/image12.jpeg"/><Relationship Id="rId18" Type="http://schemas.openxmlformats.org/officeDocument/2006/relationships/image" Target="../media/image14.jpeg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dkimages.com/discover/previews/741/60561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557360"/>
            <a:ext cx="849780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1) to revise describing the weathe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2) to play brain gym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3) To find the hidden imag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4) To say what you do in various weather condi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>
            <a:hlinkClick r:id="rId1" action="ppaction://hlinksldjump"/>
          </p:cNvPr>
          <p:cNvSpPr/>
          <p:nvPr/>
        </p:nvSpPr>
        <p:spPr>
          <a:xfrm>
            <a:off x="0" y="333360"/>
            <a:ext cx="9144000" cy="6524640"/>
          </a:xfrm>
          <a:custGeom>
            <a:avLst/>
            <a:gdLst>
              <a:gd name="textAreaLeft" fmla="*/ 422640 w 9144000"/>
              <a:gd name="textAreaRight" fmla="*/ 8721360 w 9144000"/>
              <a:gd name="textAreaTop" fmla="*/ 422640 h 6524640"/>
              <a:gd name="textAreaBottom" fmla="*/ 6102000 h 6524640"/>
            </a:gdLst>
            <a:ahLst/>
            <a:rect l="textAreaLeft" t="textAreaTop" r="textAreaRight" b="textAreaBottom"/>
            <a:pathLst>
              <a:path w="30271" h="21600">
                <a:moveTo>
                  <a:pt x="0" y="0"/>
                </a:moveTo>
                <a:lnTo>
                  <a:pt x="30271" y="0"/>
                </a:lnTo>
                <a:lnTo>
                  <a:pt x="30271" y="21600"/>
                </a:lnTo>
                <a:lnTo>
                  <a:pt x="0" y="21600"/>
                </a:lnTo>
                <a:close/>
              </a:path>
              <a:path fill="lightenLess" w="30271" h="21600">
                <a:moveTo>
                  <a:pt x="0" y="0"/>
                </a:moveTo>
                <a:lnTo>
                  <a:pt x="30271" y="0"/>
                </a:lnTo>
                <a:lnTo>
                  <a:pt x="28871" y="1400"/>
                </a:lnTo>
                <a:lnTo>
                  <a:pt x="1400" y="1400"/>
                </a:lnTo>
                <a:close/>
              </a:path>
              <a:path fill="darken" w="30271" h="21600">
                <a:moveTo>
                  <a:pt x="30271" y="0"/>
                </a:moveTo>
                <a:lnTo>
                  <a:pt x="30271" y="21600"/>
                </a:lnTo>
                <a:lnTo>
                  <a:pt x="28871" y="20200"/>
                </a:lnTo>
                <a:lnTo>
                  <a:pt x="28871" y="1400"/>
                </a:lnTo>
                <a:close/>
              </a:path>
              <a:path fill="darkenLess" w="30271" h="21600">
                <a:moveTo>
                  <a:pt x="302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71" y="20200"/>
                </a:lnTo>
                <a:close/>
              </a:path>
              <a:path fill="lighten" w="302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47640" y="692280"/>
            <a:ext cx="6697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est</a:t>
            </a: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á</a:t>
            </a: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 lloviend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195640" y="2133720"/>
            <a:ext cx="422280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>
            <a:hlinkClick r:id="rId1" action="ppaction://hlinksldjump"/>
          </p:cNvPr>
          <p:cNvSpPr/>
          <p:nvPr/>
        </p:nvSpPr>
        <p:spPr>
          <a:xfrm>
            <a:off x="0" y="333360"/>
            <a:ext cx="9144000" cy="6524640"/>
          </a:xfrm>
          <a:custGeom>
            <a:avLst/>
            <a:gdLst>
              <a:gd name="textAreaLeft" fmla="*/ 422640 w 9144000"/>
              <a:gd name="textAreaRight" fmla="*/ 8721360 w 9144000"/>
              <a:gd name="textAreaTop" fmla="*/ 422640 h 6524640"/>
              <a:gd name="textAreaBottom" fmla="*/ 6102000 h 6524640"/>
            </a:gdLst>
            <a:ahLst/>
            <a:rect l="textAreaLeft" t="textAreaTop" r="textAreaRight" b="textAreaBottom"/>
            <a:pathLst>
              <a:path w="30271" h="21600">
                <a:moveTo>
                  <a:pt x="0" y="0"/>
                </a:moveTo>
                <a:lnTo>
                  <a:pt x="30271" y="0"/>
                </a:lnTo>
                <a:lnTo>
                  <a:pt x="30271" y="21600"/>
                </a:lnTo>
                <a:lnTo>
                  <a:pt x="0" y="21600"/>
                </a:lnTo>
                <a:close/>
              </a:path>
              <a:path fill="lightenLess" w="30271" h="21600">
                <a:moveTo>
                  <a:pt x="0" y="0"/>
                </a:moveTo>
                <a:lnTo>
                  <a:pt x="30271" y="0"/>
                </a:lnTo>
                <a:lnTo>
                  <a:pt x="28871" y="1400"/>
                </a:lnTo>
                <a:lnTo>
                  <a:pt x="1400" y="1400"/>
                </a:lnTo>
                <a:close/>
              </a:path>
              <a:path fill="darken" w="30271" h="21600">
                <a:moveTo>
                  <a:pt x="30271" y="0"/>
                </a:moveTo>
                <a:lnTo>
                  <a:pt x="30271" y="21600"/>
                </a:lnTo>
                <a:lnTo>
                  <a:pt x="28871" y="20200"/>
                </a:lnTo>
                <a:lnTo>
                  <a:pt x="28871" y="1400"/>
                </a:lnTo>
                <a:close/>
              </a:path>
              <a:path fill="darkenLess" w="30271" h="21600">
                <a:moveTo>
                  <a:pt x="302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71" y="20200"/>
                </a:lnTo>
                <a:close/>
              </a:path>
              <a:path fill="lighten" w="302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47640" y="692280"/>
            <a:ext cx="669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est</a:t>
            </a: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á</a:t>
            </a: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 nublad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619280" y="2708280"/>
            <a:ext cx="583236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>
            <a:hlinkClick r:id="rId1" action="ppaction://hlinksldjump"/>
          </p:cNvPr>
          <p:cNvSpPr/>
          <p:nvPr/>
        </p:nvSpPr>
        <p:spPr>
          <a:xfrm>
            <a:off x="0" y="333360"/>
            <a:ext cx="9144000" cy="6524640"/>
          </a:xfrm>
          <a:custGeom>
            <a:avLst/>
            <a:gdLst>
              <a:gd name="textAreaLeft" fmla="*/ 422640 w 9144000"/>
              <a:gd name="textAreaRight" fmla="*/ 8721360 w 9144000"/>
              <a:gd name="textAreaTop" fmla="*/ 422640 h 6524640"/>
              <a:gd name="textAreaBottom" fmla="*/ 6102000 h 6524640"/>
            </a:gdLst>
            <a:ahLst/>
            <a:rect l="textAreaLeft" t="textAreaTop" r="textAreaRight" b="textAreaBottom"/>
            <a:pathLst>
              <a:path w="30271" h="21600">
                <a:moveTo>
                  <a:pt x="0" y="0"/>
                </a:moveTo>
                <a:lnTo>
                  <a:pt x="30271" y="0"/>
                </a:lnTo>
                <a:lnTo>
                  <a:pt x="30271" y="21600"/>
                </a:lnTo>
                <a:lnTo>
                  <a:pt x="0" y="21600"/>
                </a:lnTo>
                <a:close/>
              </a:path>
              <a:path fill="lightenLess" w="30271" h="21600">
                <a:moveTo>
                  <a:pt x="0" y="0"/>
                </a:moveTo>
                <a:lnTo>
                  <a:pt x="30271" y="0"/>
                </a:lnTo>
                <a:lnTo>
                  <a:pt x="28871" y="1400"/>
                </a:lnTo>
                <a:lnTo>
                  <a:pt x="1400" y="1400"/>
                </a:lnTo>
                <a:close/>
              </a:path>
              <a:path fill="darken" w="30271" h="21600">
                <a:moveTo>
                  <a:pt x="30271" y="0"/>
                </a:moveTo>
                <a:lnTo>
                  <a:pt x="30271" y="21600"/>
                </a:lnTo>
                <a:lnTo>
                  <a:pt x="28871" y="20200"/>
                </a:lnTo>
                <a:lnTo>
                  <a:pt x="28871" y="1400"/>
                </a:lnTo>
                <a:close/>
              </a:path>
              <a:path fill="darkenLess" w="30271" h="21600">
                <a:moveTo>
                  <a:pt x="302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71" y="20200"/>
                </a:lnTo>
                <a:close/>
              </a:path>
              <a:path fill="lighten" w="302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47640" y="692280"/>
            <a:ext cx="669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est</a:t>
            </a: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á</a:t>
            </a: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 nevand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411280" y="2205000"/>
            <a:ext cx="47181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042920" y="692280"/>
            <a:ext cx="7489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est</a:t>
            </a: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á</a:t>
            </a: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 despejad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71640" y="2421000"/>
            <a:ext cx="365940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4360" y="765000"/>
            <a:ext cx="777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omic Sans MS"/>
              </a:rPr>
              <a:t>Hay torment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042920" y="2349360"/>
            <a:ext cx="708660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4360" y="765000"/>
            <a:ext cx="777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omic Sans MS"/>
              </a:rPr>
              <a:t>Hay trueno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2340000" y="2421000"/>
            <a:ext cx="4871880" cy="3544920"/>
            <a:chOff x="2340000" y="2421000"/>
            <a:chExt cx="4871880" cy="354492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2340000" y="2421000"/>
              <a:ext cx="3544920" cy="354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796000" y="2421000"/>
              <a:ext cx="1415880" cy="2232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4360" y="765000"/>
            <a:ext cx="7775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>
                <a:solidFill>
                  <a:srgbClr val="000000"/>
                </a:solidFill>
                <a:latin typeface="Comic Sans MS"/>
              </a:rPr>
              <a:t>Hay relámpago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340000" y="2421000"/>
            <a:ext cx="354492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4360" y="765000"/>
            <a:ext cx="777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>
                <a:solidFill>
                  <a:srgbClr val="000000"/>
                </a:solidFill>
                <a:latin typeface="Comic Sans MS"/>
              </a:rPr>
              <a:t>Hay niebl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7086600" cy="43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>
            <a:hlinkClick r:id="rId1" action="ppaction://hlinksldjump"/>
          </p:cNvPr>
          <p:cNvSpPr/>
          <p:nvPr/>
        </p:nvSpPr>
        <p:spPr>
          <a:xfrm>
            <a:off x="0" y="333360"/>
            <a:ext cx="9144000" cy="6524640"/>
          </a:xfrm>
          <a:custGeom>
            <a:avLst/>
            <a:gdLst>
              <a:gd name="textAreaLeft" fmla="*/ 422640 w 9144000"/>
              <a:gd name="textAreaRight" fmla="*/ 8721360 w 9144000"/>
              <a:gd name="textAreaTop" fmla="*/ 422640 h 6524640"/>
              <a:gd name="textAreaBottom" fmla="*/ 6102000 h 6524640"/>
            </a:gdLst>
            <a:ahLst/>
            <a:rect l="textAreaLeft" t="textAreaTop" r="textAreaRight" b="textAreaBottom"/>
            <a:pathLst>
              <a:path w="30271" h="21600">
                <a:moveTo>
                  <a:pt x="0" y="0"/>
                </a:moveTo>
                <a:lnTo>
                  <a:pt x="30271" y="0"/>
                </a:lnTo>
                <a:lnTo>
                  <a:pt x="30271" y="21600"/>
                </a:lnTo>
                <a:lnTo>
                  <a:pt x="0" y="21600"/>
                </a:lnTo>
                <a:close/>
              </a:path>
              <a:path fill="lightenLess" w="30271" h="21600">
                <a:moveTo>
                  <a:pt x="0" y="0"/>
                </a:moveTo>
                <a:lnTo>
                  <a:pt x="30271" y="0"/>
                </a:lnTo>
                <a:lnTo>
                  <a:pt x="28871" y="1400"/>
                </a:lnTo>
                <a:lnTo>
                  <a:pt x="1400" y="1400"/>
                </a:lnTo>
                <a:close/>
              </a:path>
              <a:path fill="darken" w="30271" h="21600">
                <a:moveTo>
                  <a:pt x="30271" y="0"/>
                </a:moveTo>
                <a:lnTo>
                  <a:pt x="30271" y="21600"/>
                </a:lnTo>
                <a:lnTo>
                  <a:pt x="28871" y="20200"/>
                </a:lnTo>
                <a:lnTo>
                  <a:pt x="28871" y="1400"/>
                </a:lnTo>
                <a:close/>
              </a:path>
              <a:path fill="darkenLess" w="30271" h="21600">
                <a:moveTo>
                  <a:pt x="302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71" y="20200"/>
                </a:lnTo>
                <a:close/>
              </a:path>
              <a:path fill="lighten" w="302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1512720" cy="1498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979640" y="189000"/>
            <a:ext cx="812880" cy="180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3276720" y="260280"/>
            <a:ext cx="1728720" cy="1611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5364000" y="333360"/>
            <a:ext cx="1357560" cy="13795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6877080" y="260280"/>
            <a:ext cx="1728720" cy="1501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79280" y="2565360"/>
            <a:ext cx="1727280" cy="1457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9"/>
          <a:stretch/>
        </p:blipFill>
        <p:spPr>
          <a:xfrm>
            <a:off x="1979640" y="2565360"/>
            <a:ext cx="1601640" cy="1628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0"/>
          <a:stretch/>
        </p:blipFill>
        <p:spPr>
          <a:xfrm>
            <a:off x="3708360" y="2924280"/>
            <a:ext cx="2016000" cy="1004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1"/>
          <a:stretch/>
        </p:blipFill>
        <p:spPr>
          <a:xfrm>
            <a:off x="5796000" y="2708280"/>
            <a:ext cx="1584360" cy="1433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7451640" y="2708280"/>
            <a:ext cx="1368360" cy="1338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4"/>
          <a:stretch/>
        </p:blipFill>
        <p:spPr>
          <a:xfrm>
            <a:off x="395280" y="4581360"/>
            <a:ext cx="1728720" cy="126684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2340000" y="4581360"/>
            <a:ext cx="1655280" cy="1312920"/>
            <a:chOff x="2340000" y="4581360"/>
            <a:chExt cx="1655280" cy="1312920"/>
          </a:xfrm>
        </p:grpSpPr>
        <p:pic>
          <p:nvPicPr>
            <p:cNvPr id="97" name="" descr=""/>
            <p:cNvPicPr/>
            <p:nvPr/>
          </p:nvPicPr>
          <p:blipFill>
            <a:blip r:embed="rId15"/>
            <a:stretch/>
          </p:blipFill>
          <p:spPr>
            <a:xfrm>
              <a:off x="2340000" y="4581360"/>
              <a:ext cx="1204560" cy="131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>
              <a:hlinkClick r:id="rId16"/>
            </p:cNvPr>
            <p:cNvPicPr/>
            <p:nvPr/>
          </p:nvPicPr>
          <p:blipFill>
            <a:blip r:embed="rId17"/>
            <a:stretch/>
          </p:blipFill>
          <p:spPr>
            <a:xfrm>
              <a:off x="3514320" y="4581360"/>
              <a:ext cx="480960" cy="826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9" name="" descr=""/>
          <p:cNvPicPr/>
          <p:nvPr/>
        </p:nvPicPr>
        <p:blipFill>
          <a:blip r:embed="rId18"/>
          <a:stretch/>
        </p:blipFill>
        <p:spPr>
          <a:xfrm>
            <a:off x="4211640" y="450864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9"/>
          <a:stretch/>
        </p:blipFill>
        <p:spPr>
          <a:xfrm>
            <a:off x="6084720" y="4724280"/>
            <a:ext cx="1729080" cy="10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960800" y="228600"/>
            <a:ext cx="457200" cy="571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46000" y="228600"/>
            <a:ext cx="457200" cy="571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89280" y="228600"/>
            <a:ext cx="457200" cy="5716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303200" y="3430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000000"/>
                </a:solidFill>
                <a:latin typeface="Comic Sans MS"/>
              </a:rPr>
              <a:t>izquie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6480" y="3430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000000"/>
                </a:solidFill>
                <a:latin typeface="Comic Sans MS"/>
              </a:rPr>
              <a:t>derec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18000" y="34308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000000"/>
                </a:solidFill>
                <a:latin typeface="Comic Sans MS"/>
              </a:rPr>
              <a:t>dos ma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95640" y="2349360"/>
            <a:ext cx="457200" cy="571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60880" y="1270080"/>
            <a:ext cx="457200" cy="571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40360" y="2421000"/>
            <a:ext cx="457200" cy="571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17600" y="1270080"/>
            <a:ext cx="457200" cy="571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95640" y="4508640"/>
            <a:ext cx="457200" cy="571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95640" y="3429000"/>
            <a:ext cx="457200" cy="5716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211640" y="4581360"/>
            <a:ext cx="457200" cy="5716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40360" y="3500280"/>
            <a:ext cx="457200" cy="571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859280" y="3357720"/>
            <a:ext cx="936720" cy="7030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195640" y="5300640"/>
            <a:ext cx="457200" cy="571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11640" y="5373720"/>
            <a:ext cx="457200" cy="571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11280" y="1177920"/>
            <a:ext cx="1368360" cy="7761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788000" y="907920"/>
            <a:ext cx="1008000" cy="1008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4788000" y="2060640"/>
            <a:ext cx="1079280" cy="9763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11280" y="5229360"/>
            <a:ext cx="1152360" cy="9666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7"/>
          <a:stretch/>
        </p:blipFill>
        <p:spPr>
          <a:xfrm>
            <a:off x="611280" y="1989000"/>
            <a:ext cx="1296720" cy="10065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8"/>
          <a:stretch/>
        </p:blipFill>
        <p:spPr>
          <a:xfrm>
            <a:off x="611280" y="3083040"/>
            <a:ext cx="1152360" cy="10746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9"/>
          <a:stretch/>
        </p:blipFill>
        <p:spPr>
          <a:xfrm>
            <a:off x="4932360" y="5300640"/>
            <a:ext cx="755640" cy="1295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0"/>
          <a:stretch/>
        </p:blipFill>
        <p:spPr>
          <a:xfrm>
            <a:off x="4716360" y="4149720"/>
            <a:ext cx="1224000" cy="1063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1"/>
          <a:stretch/>
        </p:blipFill>
        <p:spPr>
          <a:xfrm>
            <a:off x="395280" y="4221000"/>
            <a:ext cx="934920" cy="9352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1332000" y="4221000"/>
            <a:ext cx="50148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39640" y="2349360"/>
          <a:ext cx="8209080" cy="3189600"/>
        </p:xfrm>
        <a:graphic>
          <a:graphicData uri="http://schemas.openxmlformats.org/drawingml/2006/table">
            <a:tbl>
              <a:tblPr/>
              <a:tblGrid>
                <a:gridCol w="1941480"/>
                <a:gridCol w="2090880"/>
                <a:gridCol w="2124000"/>
                <a:gridCol w="2052720"/>
              </a:tblGrid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cha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jeto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y a aprender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 </a:t>
                      </a: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rendido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tiemp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 / 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684360" y="549360"/>
            <a:ext cx="7343640" cy="1312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ntas cosas vas a aprender ho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187280" y="476280"/>
            <a:ext cx="2016360" cy="4464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851280" y="0"/>
            <a:ext cx="5292720" cy="1484280"/>
          </a:xfrm>
          <a:custGeom>
            <a:avLst/>
            <a:gdLst>
              <a:gd name="textAreaLeft" fmla="*/ 1163880 w 5292720"/>
              <a:gd name="textAreaRight" fmla="*/ 4128840 w 5292720"/>
              <a:gd name="textAreaTop" fmla="*/ 326160 h 1484280"/>
              <a:gd name="textAreaBottom" fmla="*/ 1158120 h 148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1a5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859280" y="3933720"/>
            <a:ext cx="3168720" cy="2924280"/>
          </a:xfrm>
          <a:prstGeom prst="parallelogram">
            <a:avLst>
              <a:gd name="adj" fmla="val 2709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979640" y="0"/>
            <a:ext cx="3744720" cy="40053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005360"/>
            <a:ext cx="2843280" cy="2852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ubL"/>
          <p:cNvSpPr/>
          <p:nvPr/>
        </p:nvSpPr>
        <p:spPr>
          <a:xfrm>
            <a:off x="2843280" y="4005360"/>
            <a:ext cx="2592360" cy="2852640"/>
          </a:xfrm>
          <a:custGeom>
            <a:avLst/>
            <a:gdLst>
              <a:gd name="textAreaLeft" fmla="*/ 0 w 2592360"/>
              <a:gd name="textAreaRight" fmla="*/ 2592360 w 2592360"/>
              <a:gd name="textAreaTop" fmla="*/ 1426320 h 2852640"/>
              <a:gd name="textAreaBottom" fmla="*/ 2853000 h 28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10800" y="10800"/>
                </a:lnTo>
                <a:lnTo>
                  <a:pt x="10800" y="0"/>
                </a:lnTo>
              </a:path>
            </a:pathLst>
          </a:custGeom>
          <a:solidFill>
            <a:srgbClr val="d6009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51280" y="2924280"/>
            <a:ext cx="1800360" cy="2808360"/>
          </a:xfrm>
          <a:prstGeom prst="pentag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0800000">
            <a:off x="6227280" y="-360"/>
            <a:ext cx="2916360" cy="393372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588000" y="0"/>
            <a:ext cx="2556000" cy="6858000"/>
          </a:xfrm>
          <a:prstGeom prst="rtTriangl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04000" y="2997360"/>
            <a:ext cx="1008000" cy="936360"/>
          </a:xfrm>
          <a:prstGeom prst="triangle">
            <a:avLst>
              <a:gd name="adj" fmla="val 50000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00720" y="1484280"/>
            <a:ext cx="3058920" cy="2448000"/>
          </a:xfrm>
          <a:prstGeom prst="hexagon">
            <a:avLst>
              <a:gd name="adj" fmla="val 31239"/>
              <a:gd name="vf" fmla="val 11547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3995640" cy="4005360"/>
          </a:xfrm>
          <a:prstGeom prst="rtTriangl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10800000">
            <a:off x="0" y="0"/>
            <a:ext cx="3851280" cy="2060640"/>
          </a:xfrm>
          <a:prstGeom prst="triangle">
            <a:avLst>
              <a:gd name="adj" fmla="val 5002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380360" y="62373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148360" y="476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62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26920" y="2060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1628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651640" y="2205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093080" y="342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149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16000" y="5084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59280" y="5157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940360" y="508464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56720" y="4653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792360" cy="431640"/>
          </a:xfrm>
          <a:prstGeom prst="rightArrow">
            <a:avLst>
              <a:gd name="adj1" fmla="val 50000"/>
              <a:gd name="adj2" fmla="val 458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19280" y="62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7020000" y="6080040"/>
            <a:ext cx="900000" cy="5889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484360" y="2708280"/>
            <a:ext cx="3167280" cy="825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é e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5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9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1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1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131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4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3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49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0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66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9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175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1084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180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" dur="1084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500720" y="2924280"/>
            <a:ext cx="4925880" cy="30430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0" y="0"/>
            <a:ext cx="3995640" cy="4005360"/>
          </a:xfrm>
          <a:prstGeom prst="rtTriangl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51280" y="0"/>
            <a:ext cx="5292720" cy="1484280"/>
          </a:xfrm>
          <a:custGeom>
            <a:avLst/>
            <a:gdLst>
              <a:gd name="textAreaLeft" fmla="*/ 1163880 w 5292720"/>
              <a:gd name="textAreaRight" fmla="*/ 4128840 w 5292720"/>
              <a:gd name="textAreaTop" fmla="*/ 326160 h 1484280"/>
              <a:gd name="textAreaBottom" fmla="*/ 1158120 h 148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1a5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859280" y="3933720"/>
            <a:ext cx="3168720" cy="2924280"/>
          </a:xfrm>
          <a:prstGeom prst="parallelogram">
            <a:avLst>
              <a:gd name="adj" fmla="val 2709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4005360"/>
            <a:ext cx="2843280" cy="2852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ubL"/>
          <p:cNvSpPr/>
          <p:nvPr/>
        </p:nvSpPr>
        <p:spPr>
          <a:xfrm>
            <a:off x="2843280" y="4005360"/>
            <a:ext cx="2592360" cy="2852640"/>
          </a:xfrm>
          <a:custGeom>
            <a:avLst/>
            <a:gdLst>
              <a:gd name="textAreaLeft" fmla="*/ 0 w 2592360"/>
              <a:gd name="textAreaRight" fmla="*/ 2592360 w 2592360"/>
              <a:gd name="textAreaTop" fmla="*/ 1426320 h 2852640"/>
              <a:gd name="textAreaBottom" fmla="*/ 2853000 h 28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10800" y="10800"/>
                </a:lnTo>
                <a:lnTo>
                  <a:pt x="10800" y="0"/>
                </a:lnTo>
              </a:path>
            </a:pathLst>
          </a:custGeom>
          <a:solidFill>
            <a:srgbClr val="d6009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51280" y="2924280"/>
            <a:ext cx="1800360" cy="2808360"/>
          </a:xfrm>
          <a:prstGeom prst="pentag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0800000">
            <a:off x="6227280" y="-360"/>
            <a:ext cx="2916360" cy="393372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6588000" y="0"/>
            <a:ext cx="2556000" cy="6858000"/>
          </a:xfrm>
          <a:prstGeom prst="rtTriangl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04000" y="2997360"/>
            <a:ext cx="1008000" cy="936360"/>
          </a:xfrm>
          <a:prstGeom prst="triangle">
            <a:avLst>
              <a:gd name="adj" fmla="val 50000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00720" y="1484280"/>
            <a:ext cx="3058920" cy="2448000"/>
          </a:xfrm>
          <a:prstGeom prst="hexagon">
            <a:avLst>
              <a:gd name="adj" fmla="val 31239"/>
              <a:gd name="vf" fmla="val 11547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79640" y="0"/>
            <a:ext cx="3744720" cy="40053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10800000">
            <a:off x="0" y="0"/>
            <a:ext cx="3851280" cy="2060640"/>
          </a:xfrm>
          <a:prstGeom prst="triangle">
            <a:avLst>
              <a:gd name="adj" fmla="val 5002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7380360" y="62373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148360" y="476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380360" y="62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6920" y="2060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19640" y="1628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51640" y="2205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093080" y="342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4149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116000" y="5084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059280" y="5157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940360" y="508464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956720" y="4653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792360" cy="431640"/>
          </a:xfrm>
          <a:prstGeom prst="rightArrow">
            <a:avLst>
              <a:gd name="adj1" fmla="val 50000"/>
              <a:gd name="adj2" fmla="val 458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19280" y="62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7020000" y="6080040"/>
            <a:ext cx="900000" cy="5889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780000" y="2781360"/>
            <a:ext cx="3166920" cy="825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é e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192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5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201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4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210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13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218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1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0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236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3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244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251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4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260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3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2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6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277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0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5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286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9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4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295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8" dur="1084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9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300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3" dur="1084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227640" y="260280"/>
            <a:ext cx="2303640" cy="23036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851280" y="0"/>
            <a:ext cx="5292720" cy="1484280"/>
          </a:xfrm>
          <a:custGeom>
            <a:avLst/>
            <a:gdLst>
              <a:gd name="textAreaLeft" fmla="*/ 1163880 w 5292720"/>
              <a:gd name="textAreaRight" fmla="*/ 4128840 w 5292720"/>
              <a:gd name="textAreaTop" fmla="*/ 326160 h 1484280"/>
              <a:gd name="textAreaBottom" fmla="*/ 1158120 h 148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1a5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859280" y="3933720"/>
            <a:ext cx="3168720" cy="2924280"/>
          </a:xfrm>
          <a:prstGeom prst="parallelogram">
            <a:avLst>
              <a:gd name="adj" fmla="val 2709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79640" y="0"/>
            <a:ext cx="3744720" cy="40053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4005360"/>
            <a:ext cx="2843280" cy="2852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ubL"/>
          <p:cNvSpPr/>
          <p:nvPr/>
        </p:nvSpPr>
        <p:spPr>
          <a:xfrm>
            <a:off x="2843280" y="4005360"/>
            <a:ext cx="2592360" cy="2852640"/>
          </a:xfrm>
          <a:custGeom>
            <a:avLst/>
            <a:gdLst>
              <a:gd name="textAreaLeft" fmla="*/ 0 w 2592360"/>
              <a:gd name="textAreaRight" fmla="*/ 2592360 w 2592360"/>
              <a:gd name="textAreaTop" fmla="*/ 1426320 h 2852640"/>
              <a:gd name="textAreaBottom" fmla="*/ 2853000 h 28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10800" y="10800"/>
                </a:lnTo>
                <a:lnTo>
                  <a:pt x="10800" y="0"/>
                </a:lnTo>
              </a:path>
            </a:pathLst>
          </a:custGeom>
          <a:solidFill>
            <a:srgbClr val="d6009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51280" y="2924280"/>
            <a:ext cx="1800360" cy="2808360"/>
          </a:xfrm>
          <a:prstGeom prst="pentag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10800000">
            <a:off x="6227280" y="-360"/>
            <a:ext cx="2916360" cy="393372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6588000" y="0"/>
            <a:ext cx="2556000" cy="6858000"/>
          </a:xfrm>
          <a:prstGeom prst="rtTriangl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04000" y="2997360"/>
            <a:ext cx="1008000" cy="936360"/>
          </a:xfrm>
          <a:prstGeom prst="triangle">
            <a:avLst>
              <a:gd name="adj" fmla="val 50000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00720" y="1484280"/>
            <a:ext cx="3058920" cy="2448000"/>
          </a:xfrm>
          <a:prstGeom prst="hexagon">
            <a:avLst>
              <a:gd name="adj" fmla="val 31239"/>
              <a:gd name="vf" fmla="val 11547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0"/>
            <a:ext cx="3995640" cy="4005360"/>
          </a:xfrm>
          <a:prstGeom prst="rtTriangl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10800000">
            <a:off x="0" y="0"/>
            <a:ext cx="3851280" cy="2060640"/>
          </a:xfrm>
          <a:prstGeom prst="triangle">
            <a:avLst>
              <a:gd name="adj" fmla="val 5002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7380360" y="62373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5148360" y="476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380360" y="62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26920" y="2060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19640" y="1628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651640" y="2205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093080" y="342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0" y="4149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116000" y="5084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59280" y="5157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940360" y="508464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956720" y="4653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792360" cy="431640"/>
          </a:xfrm>
          <a:prstGeom prst="rightArrow">
            <a:avLst>
              <a:gd name="adj1" fmla="val 50000"/>
              <a:gd name="adj2" fmla="val 458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619280" y="62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7020000" y="6080040"/>
            <a:ext cx="900000" cy="5889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2484360" y="2708280"/>
            <a:ext cx="3167280" cy="825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é e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1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312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5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321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4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330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3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7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338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1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6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347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5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356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59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3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364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0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371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4" dur="1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1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9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380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3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8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389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2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6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397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0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5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406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9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4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415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8" dur="1084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9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420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3" dur="1084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908000" y="3429000"/>
            <a:ext cx="2305080" cy="20844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0" y="0"/>
            <a:ext cx="3995640" cy="4005360"/>
          </a:xfrm>
          <a:prstGeom prst="rtTriangl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851280" y="0"/>
            <a:ext cx="5292720" cy="1484280"/>
          </a:xfrm>
          <a:custGeom>
            <a:avLst/>
            <a:gdLst>
              <a:gd name="textAreaLeft" fmla="*/ 1163880 w 5292720"/>
              <a:gd name="textAreaRight" fmla="*/ 4128840 w 5292720"/>
              <a:gd name="textAreaTop" fmla="*/ 326160 h 1484280"/>
              <a:gd name="textAreaBottom" fmla="*/ 1158120 h 148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1a5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859280" y="3933720"/>
            <a:ext cx="3168720" cy="2924280"/>
          </a:xfrm>
          <a:prstGeom prst="parallelogram">
            <a:avLst>
              <a:gd name="adj" fmla="val 2709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4005360"/>
            <a:ext cx="2843280" cy="2852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ubL"/>
          <p:cNvSpPr/>
          <p:nvPr/>
        </p:nvSpPr>
        <p:spPr>
          <a:xfrm>
            <a:off x="2843280" y="4005360"/>
            <a:ext cx="2592360" cy="2852640"/>
          </a:xfrm>
          <a:custGeom>
            <a:avLst/>
            <a:gdLst>
              <a:gd name="textAreaLeft" fmla="*/ 0 w 2592360"/>
              <a:gd name="textAreaRight" fmla="*/ 2592360 w 2592360"/>
              <a:gd name="textAreaTop" fmla="*/ 1426320 h 2852640"/>
              <a:gd name="textAreaBottom" fmla="*/ 2853000 h 28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10800" y="10800"/>
                </a:lnTo>
                <a:lnTo>
                  <a:pt x="10800" y="0"/>
                </a:lnTo>
              </a:path>
            </a:pathLst>
          </a:custGeom>
          <a:solidFill>
            <a:srgbClr val="d6009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51280" y="2924280"/>
            <a:ext cx="1800360" cy="2808360"/>
          </a:xfrm>
          <a:prstGeom prst="pentag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10800000">
            <a:off x="6227280" y="-360"/>
            <a:ext cx="2916360" cy="393372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6588000" y="0"/>
            <a:ext cx="2556000" cy="6858000"/>
          </a:xfrm>
          <a:prstGeom prst="rtTriangl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04000" y="2997360"/>
            <a:ext cx="1008000" cy="936360"/>
          </a:xfrm>
          <a:prstGeom prst="triangle">
            <a:avLst>
              <a:gd name="adj" fmla="val 50000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00720" y="1484280"/>
            <a:ext cx="3058920" cy="2448000"/>
          </a:xfrm>
          <a:prstGeom prst="hexagon">
            <a:avLst>
              <a:gd name="adj" fmla="val 31239"/>
              <a:gd name="vf" fmla="val 11547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979640" y="0"/>
            <a:ext cx="3744720" cy="40053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0800000">
            <a:off x="0" y="0"/>
            <a:ext cx="3851280" cy="2060640"/>
          </a:xfrm>
          <a:prstGeom prst="triangle">
            <a:avLst>
              <a:gd name="adj" fmla="val 5002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7380360" y="62373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5148360" y="476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380360" y="62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26920" y="2060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419640" y="1628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651640" y="2205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093080" y="342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0" y="4149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116000" y="5084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059280" y="5157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940360" y="508464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956720" y="4653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792360" cy="431640"/>
          </a:xfrm>
          <a:prstGeom prst="rightArrow">
            <a:avLst>
              <a:gd name="adj1" fmla="val 50000"/>
              <a:gd name="adj2" fmla="val 458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9280" y="62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7020000" y="6080040"/>
            <a:ext cx="900000" cy="5889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3780000" y="2781360"/>
            <a:ext cx="3166920" cy="825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é e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2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1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432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5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0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441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4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9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450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53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7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458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1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6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467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0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5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476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7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3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484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0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491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4" dur="1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1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9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500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8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509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2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6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517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0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5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526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9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4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535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8" dur="1084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9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540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3" dur="1084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2627280" y="2205000"/>
            <a:ext cx="3960720" cy="22464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851280" y="0"/>
            <a:ext cx="5292720" cy="1484280"/>
          </a:xfrm>
          <a:custGeom>
            <a:avLst/>
            <a:gdLst>
              <a:gd name="textAreaLeft" fmla="*/ 1163880 w 5292720"/>
              <a:gd name="textAreaRight" fmla="*/ 4128840 w 5292720"/>
              <a:gd name="textAreaTop" fmla="*/ 326160 h 1484280"/>
              <a:gd name="textAreaBottom" fmla="*/ 1158120 h 148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1a5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59280" y="3933720"/>
            <a:ext cx="3168720" cy="2924280"/>
          </a:xfrm>
          <a:prstGeom prst="parallelogram">
            <a:avLst>
              <a:gd name="adj" fmla="val 2709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4005360"/>
            <a:ext cx="2843280" cy="2852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ubL"/>
          <p:cNvSpPr/>
          <p:nvPr/>
        </p:nvSpPr>
        <p:spPr>
          <a:xfrm>
            <a:off x="2843280" y="4005360"/>
            <a:ext cx="2592360" cy="2852640"/>
          </a:xfrm>
          <a:custGeom>
            <a:avLst/>
            <a:gdLst>
              <a:gd name="textAreaLeft" fmla="*/ 0 w 2592360"/>
              <a:gd name="textAreaRight" fmla="*/ 2592360 w 2592360"/>
              <a:gd name="textAreaTop" fmla="*/ 1426320 h 2852640"/>
              <a:gd name="textAreaBottom" fmla="*/ 2853000 h 28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10800" y="10800"/>
                </a:lnTo>
                <a:lnTo>
                  <a:pt x="10800" y="0"/>
                </a:lnTo>
              </a:path>
            </a:pathLst>
          </a:custGeom>
          <a:solidFill>
            <a:srgbClr val="d6009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2924280"/>
            <a:ext cx="1800360" cy="2808360"/>
          </a:xfrm>
          <a:prstGeom prst="pentag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rot="10800000">
            <a:off x="6227280" y="-360"/>
            <a:ext cx="2916360" cy="393372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6588000" y="0"/>
            <a:ext cx="2556000" cy="6858000"/>
          </a:xfrm>
          <a:prstGeom prst="rtTriangl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804000" y="2997360"/>
            <a:ext cx="1008000" cy="936360"/>
          </a:xfrm>
          <a:prstGeom prst="triangle">
            <a:avLst>
              <a:gd name="adj" fmla="val 50000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00720" y="1484280"/>
            <a:ext cx="3058920" cy="2448000"/>
          </a:xfrm>
          <a:prstGeom prst="hexagon">
            <a:avLst>
              <a:gd name="adj" fmla="val 31239"/>
              <a:gd name="vf" fmla="val 11547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979640" y="0"/>
            <a:ext cx="3744720" cy="40053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0"/>
            <a:ext cx="3995640" cy="4005360"/>
          </a:xfrm>
          <a:prstGeom prst="rtTriangl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rot="10800000">
            <a:off x="0" y="0"/>
            <a:ext cx="3851280" cy="2060640"/>
          </a:xfrm>
          <a:prstGeom prst="triangle">
            <a:avLst>
              <a:gd name="adj" fmla="val 5002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7380360" y="62373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5148360" y="476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380360" y="62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26920" y="2060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419640" y="1628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651640" y="2205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093080" y="342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0" y="4149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116000" y="5084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059280" y="5157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940360" y="508464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956720" y="4653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792360" cy="431640"/>
          </a:xfrm>
          <a:prstGeom prst="rightArrow">
            <a:avLst>
              <a:gd name="adj1" fmla="val 50000"/>
              <a:gd name="adj2" fmla="val 458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19280" y="62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7020000" y="6080040"/>
            <a:ext cx="900000" cy="58896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2484360" y="2708280"/>
            <a:ext cx="3167280" cy="825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é e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4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1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552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5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0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561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4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9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570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73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7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578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1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6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587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0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5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596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99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3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604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0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611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4" dur="1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1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9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620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8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629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2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6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637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5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646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4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655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8" dur="1084" fill="hold"/>
                                        <p:tgtEl>
                                          <p:spTgt spid="2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9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660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3" dur="1084" fill="hold"/>
                                        <p:tgtEl>
                                          <p:spTgt spid="2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476280"/>
            <a:ext cx="3024360" cy="29559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3851280" y="0"/>
            <a:ext cx="5292720" cy="1484280"/>
          </a:xfrm>
          <a:custGeom>
            <a:avLst/>
            <a:gdLst>
              <a:gd name="textAreaLeft" fmla="*/ 1163880 w 5292720"/>
              <a:gd name="textAreaRight" fmla="*/ 4128840 w 5292720"/>
              <a:gd name="textAreaTop" fmla="*/ 326160 h 1484280"/>
              <a:gd name="textAreaBottom" fmla="*/ 1158120 h 148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1a5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859280" y="3933720"/>
            <a:ext cx="3168720" cy="2924280"/>
          </a:xfrm>
          <a:prstGeom prst="parallelogram">
            <a:avLst>
              <a:gd name="adj" fmla="val 2709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4005360"/>
            <a:ext cx="2843280" cy="2852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ubL"/>
          <p:cNvSpPr/>
          <p:nvPr/>
        </p:nvSpPr>
        <p:spPr>
          <a:xfrm>
            <a:off x="2843280" y="4005360"/>
            <a:ext cx="2592360" cy="2852640"/>
          </a:xfrm>
          <a:custGeom>
            <a:avLst/>
            <a:gdLst>
              <a:gd name="textAreaLeft" fmla="*/ 0 w 2592360"/>
              <a:gd name="textAreaRight" fmla="*/ 2592360 w 2592360"/>
              <a:gd name="textAreaTop" fmla="*/ 1426320 h 2852640"/>
              <a:gd name="textAreaBottom" fmla="*/ 2853000 h 28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10800" y="10800"/>
                </a:lnTo>
                <a:lnTo>
                  <a:pt x="10800" y="0"/>
                </a:lnTo>
              </a:path>
            </a:pathLst>
          </a:custGeom>
          <a:solidFill>
            <a:srgbClr val="d6009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851280" y="2924280"/>
            <a:ext cx="1800360" cy="2808360"/>
          </a:xfrm>
          <a:prstGeom prst="pentag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10800000">
            <a:off x="6227280" y="-360"/>
            <a:ext cx="2916360" cy="393372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6588000" y="0"/>
            <a:ext cx="2556000" cy="6858000"/>
          </a:xfrm>
          <a:prstGeom prst="rtTriangl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804000" y="2997360"/>
            <a:ext cx="1008000" cy="936360"/>
          </a:xfrm>
          <a:prstGeom prst="triangle">
            <a:avLst>
              <a:gd name="adj" fmla="val 50000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500720" y="1484280"/>
            <a:ext cx="3058920" cy="2448000"/>
          </a:xfrm>
          <a:prstGeom prst="hexagon">
            <a:avLst>
              <a:gd name="adj" fmla="val 31239"/>
              <a:gd name="vf" fmla="val 11547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979640" y="0"/>
            <a:ext cx="3744720" cy="40053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0"/>
            <a:ext cx="3995640" cy="4005360"/>
          </a:xfrm>
          <a:prstGeom prst="rtTriangl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rot="10800000">
            <a:off x="0" y="0"/>
            <a:ext cx="3851280" cy="2060640"/>
          </a:xfrm>
          <a:prstGeom prst="triangle">
            <a:avLst>
              <a:gd name="adj" fmla="val 5002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5148360" y="476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380360" y="62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26920" y="2060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419640" y="1628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651640" y="2205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093080" y="342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572000" y="4149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116000" y="5084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59280" y="5157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940360" y="508464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956720" y="4653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792360" cy="431640"/>
          </a:xfrm>
          <a:prstGeom prst="rightArrow">
            <a:avLst>
              <a:gd name="adj1" fmla="val 50000"/>
              <a:gd name="adj2" fmla="val 458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619280" y="62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4"/>
          <a:stretch/>
        </p:blipFill>
        <p:spPr>
          <a:xfrm>
            <a:off x="7020000" y="6080040"/>
            <a:ext cx="900000" cy="5889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2484360" y="2708280"/>
            <a:ext cx="3167280" cy="825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é e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6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1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672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5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0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681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4" dur="5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9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690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693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7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698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1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6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707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0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5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716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719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3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724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0" restart="whenNotActive" nodeType="interactiveSeq" fill="hold">
                <p:stCondLst>
                  <p:cond evt="onClick">
                    <p:tgtEl>
                      <p:spTgt spid="280"/>
                    </p:tgtEl>
                  </p:cond>
                </p:stCondLst>
                <p:childTnLst>
                  <p:par>
                    <p:cTn id="731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4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9" restart="whenNotActive" nodeType="interactiveSeq" fill="hold">
                <p:stCondLst>
                  <p:cond evt="onClick">
                    <p:tgtEl>
                      <p:spTgt spid="275"/>
                    </p:tgtEl>
                  </p:cond>
                </p:stCondLst>
                <p:childTnLst>
                  <p:par>
                    <p:cTn id="740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3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8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749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2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6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757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0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5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766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9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4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775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8" dur="1084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9" restart="whenNotActive" nodeType="interactiveSeq" fill="hold">
                <p:stCondLst>
                  <p:cond evt="onClick">
                    <p:tgtEl>
                      <p:spTgt spid="300"/>
                    </p:tgtEl>
                  </p:cond>
                </p:stCondLst>
                <p:childTnLst>
                  <p:par>
                    <p:cTn id="780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3" dur="1084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5000" spc="-1" strike="noStrike">
                <a:solidFill>
                  <a:srgbClr val="000000"/>
                </a:solidFill>
                <a:latin typeface="Comic Sans MS"/>
              </a:rPr>
              <a:t>Ahora, al escribir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3348000" y="2276640"/>
            <a:ext cx="2670120" cy="36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4" name=""/>
          <p:cNvGraphicFramePr/>
          <p:nvPr/>
        </p:nvGraphicFramePr>
        <p:xfrm>
          <a:off x="539640" y="2349360"/>
          <a:ext cx="8209080" cy="3189600"/>
        </p:xfrm>
        <a:graphic>
          <a:graphicData uri="http://schemas.openxmlformats.org/drawingml/2006/table">
            <a:tbl>
              <a:tblPr/>
              <a:tblGrid>
                <a:gridCol w="1941480"/>
                <a:gridCol w="2090880"/>
                <a:gridCol w="2124000"/>
                <a:gridCol w="2052720"/>
              </a:tblGrid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cha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jeto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y a aprender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 </a:t>
                      </a: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rendido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tiemp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 / 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 /  1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5" name=""/>
          <p:cNvSpPr/>
          <p:nvPr/>
        </p:nvSpPr>
        <p:spPr>
          <a:xfrm>
            <a:off x="684360" y="549360"/>
            <a:ext cx="7343640" cy="1312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ntas cosas vas a aprender ho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>
            <a:hlinkClick r:id="rId1" action="ppaction://hlinksldjump"/>
          </p:cNvPr>
          <p:cNvSpPr/>
          <p:nvPr/>
        </p:nvSpPr>
        <p:spPr>
          <a:xfrm>
            <a:off x="0" y="333360"/>
            <a:ext cx="9144000" cy="6524640"/>
          </a:xfrm>
          <a:custGeom>
            <a:avLst/>
            <a:gdLst>
              <a:gd name="textAreaLeft" fmla="*/ 422640 w 9144000"/>
              <a:gd name="textAreaRight" fmla="*/ 8721360 w 9144000"/>
              <a:gd name="textAreaTop" fmla="*/ 422640 h 6524640"/>
              <a:gd name="textAreaBottom" fmla="*/ 6102000 h 6524640"/>
            </a:gdLst>
            <a:ahLst/>
            <a:rect l="textAreaLeft" t="textAreaTop" r="textAreaRight" b="textAreaBottom"/>
            <a:pathLst>
              <a:path w="30271" h="21600">
                <a:moveTo>
                  <a:pt x="0" y="0"/>
                </a:moveTo>
                <a:lnTo>
                  <a:pt x="30271" y="0"/>
                </a:lnTo>
                <a:lnTo>
                  <a:pt x="30271" y="21600"/>
                </a:lnTo>
                <a:lnTo>
                  <a:pt x="0" y="21600"/>
                </a:lnTo>
                <a:close/>
              </a:path>
              <a:path fill="lightenLess" w="30271" h="21600">
                <a:moveTo>
                  <a:pt x="0" y="0"/>
                </a:moveTo>
                <a:lnTo>
                  <a:pt x="30271" y="0"/>
                </a:lnTo>
                <a:lnTo>
                  <a:pt x="28871" y="1400"/>
                </a:lnTo>
                <a:lnTo>
                  <a:pt x="1400" y="1400"/>
                </a:lnTo>
                <a:close/>
              </a:path>
              <a:path fill="darken" w="30271" h="21600">
                <a:moveTo>
                  <a:pt x="30271" y="0"/>
                </a:moveTo>
                <a:lnTo>
                  <a:pt x="30271" y="21600"/>
                </a:lnTo>
                <a:lnTo>
                  <a:pt x="28871" y="20200"/>
                </a:lnTo>
                <a:lnTo>
                  <a:pt x="28871" y="1400"/>
                </a:lnTo>
                <a:close/>
              </a:path>
              <a:path fill="darkenLess" w="30271" h="21600">
                <a:moveTo>
                  <a:pt x="302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71" y="20200"/>
                </a:lnTo>
                <a:close/>
              </a:path>
              <a:path fill="lighten" w="302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1512720" cy="149868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1979640" y="189000"/>
            <a:ext cx="812880" cy="180000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4"/>
          <a:stretch/>
        </p:blipFill>
        <p:spPr>
          <a:xfrm>
            <a:off x="3276720" y="260280"/>
            <a:ext cx="1728720" cy="161136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5"/>
          <a:stretch/>
        </p:blipFill>
        <p:spPr>
          <a:xfrm>
            <a:off x="5364000" y="333360"/>
            <a:ext cx="1357560" cy="137952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6"/>
          <a:stretch/>
        </p:blipFill>
        <p:spPr>
          <a:xfrm>
            <a:off x="6877080" y="260280"/>
            <a:ext cx="1728720" cy="150192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79280" y="2565360"/>
            <a:ext cx="1727280" cy="145728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9"/>
          <a:stretch/>
        </p:blipFill>
        <p:spPr>
          <a:xfrm>
            <a:off x="1979640" y="2565360"/>
            <a:ext cx="1601640" cy="162864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10"/>
          <a:stretch/>
        </p:blipFill>
        <p:spPr>
          <a:xfrm>
            <a:off x="3708360" y="2924280"/>
            <a:ext cx="2016000" cy="100476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11"/>
          <a:stretch/>
        </p:blipFill>
        <p:spPr>
          <a:xfrm>
            <a:off x="5796000" y="2708280"/>
            <a:ext cx="1584360" cy="14335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7451640" y="2708280"/>
            <a:ext cx="1368360" cy="133812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14"/>
          <a:stretch/>
        </p:blipFill>
        <p:spPr>
          <a:xfrm>
            <a:off x="395280" y="4581360"/>
            <a:ext cx="1728720" cy="1266840"/>
          </a:xfrm>
          <a:prstGeom prst="rect">
            <a:avLst/>
          </a:prstGeom>
          <a:ln w="0">
            <a:noFill/>
          </a:ln>
        </p:spPr>
      </p:pic>
      <p:grpSp>
        <p:nvGrpSpPr>
          <p:cNvPr id="318" name=""/>
          <p:cNvGrpSpPr/>
          <p:nvPr/>
        </p:nvGrpSpPr>
        <p:grpSpPr>
          <a:xfrm>
            <a:off x="2340000" y="4581360"/>
            <a:ext cx="1655280" cy="1312920"/>
            <a:chOff x="2340000" y="4581360"/>
            <a:chExt cx="1655280" cy="1312920"/>
          </a:xfrm>
        </p:grpSpPr>
        <p:pic>
          <p:nvPicPr>
            <p:cNvPr id="319" name="" descr=""/>
            <p:cNvPicPr/>
            <p:nvPr/>
          </p:nvPicPr>
          <p:blipFill>
            <a:blip r:embed="rId15"/>
            <a:stretch/>
          </p:blipFill>
          <p:spPr>
            <a:xfrm>
              <a:off x="2340000" y="4581360"/>
              <a:ext cx="1204560" cy="131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" descr=""/>
            <p:cNvPicPr/>
            <p:nvPr/>
          </p:nvPicPr>
          <p:blipFill>
            <a:blip r:embed="rId16"/>
            <a:stretch/>
          </p:blipFill>
          <p:spPr>
            <a:xfrm>
              <a:off x="3514320" y="4581360"/>
              <a:ext cx="480960" cy="826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1" name="" descr=""/>
          <p:cNvPicPr/>
          <p:nvPr/>
        </p:nvPicPr>
        <p:blipFill>
          <a:blip r:embed="rId17"/>
          <a:stretch/>
        </p:blipFill>
        <p:spPr>
          <a:xfrm>
            <a:off x="4211640" y="450864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18"/>
          <a:stretch/>
        </p:blipFill>
        <p:spPr>
          <a:xfrm>
            <a:off x="6084720" y="4724280"/>
            <a:ext cx="1729080" cy="10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403280" y="1268280"/>
            <a:ext cx="676908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  <a:ea typeface="Arial"/>
              </a:rPr>
              <a:t>¿Qué tiempo hace?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>
            <a:hlinkClick r:id="rId1" action="ppaction://hlinksldjump"/>
          </p:cNvPr>
          <p:cNvSpPr/>
          <p:nvPr/>
        </p:nvSpPr>
        <p:spPr>
          <a:xfrm>
            <a:off x="0" y="333360"/>
            <a:ext cx="9144000" cy="6524640"/>
          </a:xfrm>
          <a:custGeom>
            <a:avLst/>
            <a:gdLst>
              <a:gd name="textAreaLeft" fmla="*/ 422640 w 9144000"/>
              <a:gd name="textAreaRight" fmla="*/ 8721360 w 9144000"/>
              <a:gd name="textAreaTop" fmla="*/ 422640 h 6524640"/>
              <a:gd name="textAreaBottom" fmla="*/ 6102000 h 6524640"/>
            </a:gdLst>
            <a:ahLst/>
            <a:rect l="textAreaLeft" t="textAreaTop" r="textAreaRight" b="textAreaBottom"/>
            <a:pathLst>
              <a:path w="30271" h="21600">
                <a:moveTo>
                  <a:pt x="0" y="0"/>
                </a:moveTo>
                <a:lnTo>
                  <a:pt x="30271" y="0"/>
                </a:lnTo>
                <a:lnTo>
                  <a:pt x="30271" y="21600"/>
                </a:lnTo>
                <a:lnTo>
                  <a:pt x="0" y="21600"/>
                </a:lnTo>
                <a:close/>
              </a:path>
              <a:path fill="lightenLess" w="30271" h="21600">
                <a:moveTo>
                  <a:pt x="0" y="0"/>
                </a:moveTo>
                <a:lnTo>
                  <a:pt x="30271" y="0"/>
                </a:lnTo>
                <a:lnTo>
                  <a:pt x="28871" y="1400"/>
                </a:lnTo>
                <a:lnTo>
                  <a:pt x="1400" y="1400"/>
                </a:lnTo>
                <a:close/>
              </a:path>
              <a:path fill="darken" w="30271" h="21600">
                <a:moveTo>
                  <a:pt x="30271" y="0"/>
                </a:moveTo>
                <a:lnTo>
                  <a:pt x="30271" y="21600"/>
                </a:lnTo>
                <a:lnTo>
                  <a:pt x="28871" y="20200"/>
                </a:lnTo>
                <a:lnTo>
                  <a:pt x="28871" y="1400"/>
                </a:lnTo>
                <a:close/>
              </a:path>
              <a:path fill="darkenLess" w="30271" h="21600">
                <a:moveTo>
                  <a:pt x="302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71" y="20200"/>
                </a:lnTo>
                <a:close/>
              </a:path>
              <a:path fill="lighten" w="302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47640" y="620640"/>
            <a:ext cx="57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hace sol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411280" y="2060640"/>
            <a:ext cx="432144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rId1" action="ppaction://hlinksldjump"/>
          </p:cNvPr>
          <p:cNvSpPr/>
          <p:nvPr/>
        </p:nvSpPr>
        <p:spPr>
          <a:xfrm>
            <a:off x="0" y="333360"/>
            <a:ext cx="9144000" cy="6524640"/>
          </a:xfrm>
          <a:custGeom>
            <a:avLst/>
            <a:gdLst>
              <a:gd name="textAreaLeft" fmla="*/ 422640 w 9144000"/>
              <a:gd name="textAreaRight" fmla="*/ 8721360 w 9144000"/>
              <a:gd name="textAreaTop" fmla="*/ 422640 h 6524640"/>
              <a:gd name="textAreaBottom" fmla="*/ 6102000 h 6524640"/>
            </a:gdLst>
            <a:ahLst/>
            <a:rect l="textAreaLeft" t="textAreaTop" r="textAreaRight" b="textAreaBottom"/>
            <a:pathLst>
              <a:path w="30271" h="21600">
                <a:moveTo>
                  <a:pt x="0" y="0"/>
                </a:moveTo>
                <a:lnTo>
                  <a:pt x="30271" y="0"/>
                </a:lnTo>
                <a:lnTo>
                  <a:pt x="30271" y="21600"/>
                </a:lnTo>
                <a:lnTo>
                  <a:pt x="0" y="21600"/>
                </a:lnTo>
                <a:close/>
              </a:path>
              <a:path fill="lightenLess" w="30271" h="21600">
                <a:moveTo>
                  <a:pt x="0" y="0"/>
                </a:moveTo>
                <a:lnTo>
                  <a:pt x="30271" y="0"/>
                </a:lnTo>
                <a:lnTo>
                  <a:pt x="28871" y="1400"/>
                </a:lnTo>
                <a:lnTo>
                  <a:pt x="1400" y="1400"/>
                </a:lnTo>
                <a:close/>
              </a:path>
              <a:path fill="darken" w="30271" h="21600">
                <a:moveTo>
                  <a:pt x="30271" y="0"/>
                </a:moveTo>
                <a:lnTo>
                  <a:pt x="30271" y="21600"/>
                </a:lnTo>
                <a:lnTo>
                  <a:pt x="28871" y="20200"/>
                </a:lnTo>
                <a:lnTo>
                  <a:pt x="28871" y="1400"/>
                </a:lnTo>
                <a:close/>
              </a:path>
              <a:path fill="darkenLess" w="30271" h="21600">
                <a:moveTo>
                  <a:pt x="302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71" y="20200"/>
                </a:lnTo>
                <a:close/>
              </a:path>
              <a:path fill="lighten" w="302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47640" y="620640"/>
            <a:ext cx="57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hace fr</a:t>
            </a: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í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203640" y="2205000"/>
            <a:ext cx="20160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0" y="333360"/>
            <a:ext cx="9144000" cy="6524640"/>
          </a:xfrm>
          <a:custGeom>
            <a:avLst/>
            <a:gdLst>
              <a:gd name="textAreaLeft" fmla="*/ 422640 w 9144000"/>
              <a:gd name="textAreaRight" fmla="*/ 8721360 w 9144000"/>
              <a:gd name="textAreaTop" fmla="*/ 422640 h 6524640"/>
              <a:gd name="textAreaBottom" fmla="*/ 6102000 h 6524640"/>
            </a:gdLst>
            <a:ahLst/>
            <a:rect l="textAreaLeft" t="textAreaTop" r="textAreaRight" b="textAreaBottom"/>
            <a:pathLst>
              <a:path w="30271" h="21600">
                <a:moveTo>
                  <a:pt x="0" y="0"/>
                </a:moveTo>
                <a:lnTo>
                  <a:pt x="30271" y="0"/>
                </a:lnTo>
                <a:lnTo>
                  <a:pt x="30271" y="21600"/>
                </a:lnTo>
                <a:lnTo>
                  <a:pt x="0" y="21600"/>
                </a:lnTo>
                <a:close/>
              </a:path>
              <a:path fill="lightenLess" w="30271" h="21600">
                <a:moveTo>
                  <a:pt x="0" y="0"/>
                </a:moveTo>
                <a:lnTo>
                  <a:pt x="30271" y="0"/>
                </a:lnTo>
                <a:lnTo>
                  <a:pt x="28871" y="1400"/>
                </a:lnTo>
                <a:lnTo>
                  <a:pt x="1400" y="1400"/>
                </a:lnTo>
                <a:close/>
              </a:path>
              <a:path fill="darken" w="30271" h="21600">
                <a:moveTo>
                  <a:pt x="30271" y="0"/>
                </a:moveTo>
                <a:lnTo>
                  <a:pt x="30271" y="21600"/>
                </a:lnTo>
                <a:lnTo>
                  <a:pt x="28871" y="20200"/>
                </a:lnTo>
                <a:lnTo>
                  <a:pt x="28871" y="1400"/>
                </a:lnTo>
                <a:close/>
              </a:path>
              <a:path fill="darkenLess" w="30271" h="21600">
                <a:moveTo>
                  <a:pt x="302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71" y="20200"/>
                </a:lnTo>
                <a:close/>
              </a:path>
              <a:path fill="lighten" w="302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620640"/>
            <a:ext cx="856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hace mal tiemp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556000" y="2421000"/>
            <a:ext cx="3927240" cy="36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rId1" action="ppaction://hlinksldjump"/>
          </p:cNvPr>
          <p:cNvSpPr/>
          <p:nvPr/>
        </p:nvSpPr>
        <p:spPr>
          <a:xfrm>
            <a:off x="0" y="333360"/>
            <a:ext cx="9144000" cy="6524640"/>
          </a:xfrm>
          <a:custGeom>
            <a:avLst/>
            <a:gdLst>
              <a:gd name="textAreaLeft" fmla="*/ 422640 w 9144000"/>
              <a:gd name="textAreaRight" fmla="*/ 8721360 w 9144000"/>
              <a:gd name="textAreaTop" fmla="*/ 422640 h 6524640"/>
              <a:gd name="textAreaBottom" fmla="*/ 6102000 h 6524640"/>
            </a:gdLst>
            <a:ahLst/>
            <a:rect l="textAreaLeft" t="textAreaTop" r="textAreaRight" b="textAreaBottom"/>
            <a:pathLst>
              <a:path w="30271" h="21600">
                <a:moveTo>
                  <a:pt x="0" y="0"/>
                </a:moveTo>
                <a:lnTo>
                  <a:pt x="30271" y="0"/>
                </a:lnTo>
                <a:lnTo>
                  <a:pt x="30271" y="21600"/>
                </a:lnTo>
                <a:lnTo>
                  <a:pt x="0" y="21600"/>
                </a:lnTo>
                <a:close/>
              </a:path>
              <a:path fill="lightenLess" w="30271" h="21600">
                <a:moveTo>
                  <a:pt x="0" y="0"/>
                </a:moveTo>
                <a:lnTo>
                  <a:pt x="30271" y="0"/>
                </a:lnTo>
                <a:lnTo>
                  <a:pt x="28871" y="1400"/>
                </a:lnTo>
                <a:lnTo>
                  <a:pt x="1400" y="1400"/>
                </a:lnTo>
                <a:close/>
              </a:path>
              <a:path fill="darken" w="30271" h="21600">
                <a:moveTo>
                  <a:pt x="30271" y="0"/>
                </a:moveTo>
                <a:lnTo>
                  <a:pt x="30271" y="21600"/>
                </a:lnTo>
                <a:lnTo>
                  <a:pt x="28871" y="20200"/>
                </a:lnTo>
                <a:lnTo>
                  <a:pt x="28871" y="1400"/>
                </a:lnTo>
                <a:close/>
              </a:path>
              <a:path fill="darkenLess" w="30271" h="21600">
                <a:moveTo>
                  <a:pt x="302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71" y="20200"/>
                </a:lnTo>
                <a:close/>
              </a:path>
              <a:path fill="lighten" w="302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620640"/>
            <a:ext cx="8569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hace buen tiemp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895480" y="2438280"/>
            <a:ext cx="341316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>
            <a:hlinkClick r:id="rId1" action="ppaction://hlinksldjump"/>
          </p:cNvPr>
          <p:cNvSpPr/>
          <p:nvPr/>
        </p:nvSpPr>
        <p:spPr>
          <a:xfrm>
            <a:off x="0" y="333360"/>
            <a:ext cx="9144000" cy="6524640"/>
          </a:xfrm>
          <a:custGeom>
            <a:avLst/>
            <a:gdLst>
              <a:gd name="textAreaLeft" fmla="*/ 422640 w 9144000"/>
              <a:gd name="textAreaRight" fmla="*/ 8721360 w 9144000"/>
              <a:gd name="textAreaTop" fmla="*/ 422640 h 6524640"/>
              <a:gd name="textAreaBottom" fmla="*/ 6102000 h 6524640"/>
            </a:gdLst>
            <a:ahLst/>
            <a:rect l="textAreaLeft" t="textAreaTop" r="textAreaRight" b="textAreaBottom"/>
            <a:pathLst>
              <a:path w="30271" h="21600">
                <a:moveTo>
                  <a:pt x="0" y="0"/>
                </a:moveTo>
                <a:lnTo>
                  <a:pt x="30271" y="0"/>
                </a:lnTo>
                <a:lnTo>
                  <a:pt x="30271" y="21600"/>
                </a:lnTo>
                <a:lnTo>
                  <a:pt x="0" y="21600"/>
                </a:lnTo>
                <a:close/>
              </a:path>
              <a:path fill="lightenLess" w="30271" h="21600">
                <a:moveTo>
                  <a:pt x="0" y="0"/>
                </a:moveTo>
                <a:lnTo>
                  <a:pt x="30271" y="0"/>
                </a:lnTo>
                <a:lnTo>
                  <a:pt x="28871" y="1400"/>
                </a:lnTo>
                <a:lnTo>
                  <a:pt x="1400" y="1400"/>
                </a:lnTo>
                <a:close/>
              </a:path>
              <a:path fill="darken" w="30271" h="21600">
                <a:moveTo>
                  <a:pt x="30271" y="0"/>
                </a:moveTo>
                <a:lnTo>
                  <a:pt x="30271" y="21600"/>
                </a:lnTo>
                <a:lnTo>
                  <a:pt x="28871" y="20200"/>
                </a:lnTo>
                <a:lnTo>
                  <a:pt x="28871" y="1400"/>
                </a:lnTo>
                <a:close/>
              </a:path>
              <a:path fill="darkenLess" w="30271" h="21600">
                <a:moveTo>
                  <a:pt x="302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71" y="20200"/>
                </a:lnTo>
                <a:close/>
              </a:path>
              <a:path fill="lighten" w="302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47640" y="620640"/>
            <a:ext cx="57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hace vient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979640" y="2211480"/>
            <a:ext cx="4753080" cy="41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hace calo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2349360"/>
            <a:ext cx="4248360" cy="35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6T16:08:06Z</dcterms:created>
  <dc:creator>Chris Fuller</dc:creator>
  <dc:description/>
  <dc:language>en-US</dc:language>
  <cp:lastModifiedBy>Owner1</cp:lastModifiedBy>
  <dcterms:modified xsi:type="dcterms:W3CDTF">2008-11-07T10:56:10Z</dcterms:modified>
  <cp:revision>9</cp:revision>
  <dc:subject/>
  <dc:title>Slide 1</dc:title>
</cp:coreProperties>
</file>